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7320" y="133200"/>
            <a:ext cx="8839080" cy="6591240"/>
            <a:chOff x="157320" y="133200"/>
            <a:chExt cx="8839080" cy="6591240"/>
          </a:xfrm>
        </p:grpSpPr>
        <p:sp>
          <p:nvSpPr>
            <p:cNvPr id="1" name=""/>
            <p:cNvSpPr/>
            <p:nvPr/>
          </p:nvSpPr>
          <p:spPr>
            <a:xfrm>
              <a:off x="157320" y="133200"/>
              <a:ext cx="8839080" cy="65912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0066"/>
                </a:gs>
                <a:gs pos="100000">
                  <a:srgbClr val="0000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4800" y="285840"/>
              <a:ext cx="8483760" cy="6286680"/>
            </a:xfrm>
            <a:prstGeom prst="rect">
              <a:avLst/>
            </a:prstGeom>
            <a:gradFill rotWithShape="0">
              <a:gsLst>
                <a:gs pos="0">
                  <a:srgbClr val="00004c"/>
                </a:gs>
                <a:gs pos="50000">
                  <a:srgbClr val="0000ff"/>
                </a:gs>
                <a:gs pos="100000">
                  <a:srgbClr val="00004c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78000" y="341280"/>
              <a:ext cx="8397720" cy="61768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50000">
                  <a:srgbClr val="000066"/>
                </a:gs>
                <a:gs pos="100000">
                  <a:srgbClr val="0000ff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12640" y="514440"/>
              <a:ext cx="8128080" cy="5829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ff"/>
                </a:gs>
                <a:gs pos="100000">
                  <a:srgbClr val="000000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" name=""/>
          <p:cNvGrpSpPr/>
          <p:nvPr/>
        </p:nvGrpSpPr>
        <p:grpSpPr>
          <a:xfrm>
            <a:off x="181080" y="5931000"/>
            <a:ext cx="3416400" cy="704880"/>
            <a:chOff x="181080" y="5931000"/>
            <a:chExt cx="3416400" cy="704880"/>
          </a:xfrm>
        </p:grpSpPr>
        <p:grpSp>
          <p:nvGrpSpPr>
            <p:cNvPr id="6" name=""/>
            <p:cNvGrpSpPr/>
            <p:nvPr/>
          </p:nvGrpSpPr>
          <p:grpSpPr>
            <a:xfrm>
              <a:off x="181080" y="5931000"/>
              <a:ext cx="831960" cy="704880"/>
              <a:chOff x="181080" y="5931000"/>
              <a:chExt cx="831960" cy="704880"/>
            </a:xfrm>
          </p:grpSpPr>
          <p:grpSp>
            <p:nvGrpSpPr>
              <p:cNvPr id="7" name=""/>
              <p:cNvGrpSpPr/>
              <p:nvPr/>
            </p:nvGrpSpPr>
            <p:grpSpPr>
              <a:xfrm>
                <a:off x="246240" y="5931000"/>
                <a:ext cx="682560" cy="704880"/>
                <a:chOff x="246240" y="5931000"/>
                <a:chExt cx="682560" cy="704880"/>
              </a:xfrm>
            </p:grpSpPr>
            <p:sp>
              <p:nvSpPr>
                <p:cNvPr id="8" name=""/>
                <p:cNvSpPr/>
                <p:nvPr/>
              </p:nvSpPr>
              <p:spPr>
                <a:xfrm>
                  <a:off x="250920" y="5951520"/>
                  <a:ext cx="668160" cy="681120"/>
                </a:xfrm>
                <a:prstGeom prst="ellipse">
                  <a:avLst/>
                </a:prstGeom>
                <a:solidFill>
                  <a:srgbClr val="fe0000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" name=""/>
                <p:cNvGrpSpPr/>
                <p:nvPr/>
              </p:nvGrpSpPr>
              <p:grpSpPr>
                <a:xfrm>
                  <a:off x="246240" y="5931000"/>
                  <a:ext cx="682560" cy="704880"/>
                  <a:chOff x="246240" y="5931000"/>
                  <a:chExt cx="682560" cy="7048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246240" y="5946840"/>
                    <a:ext cx="682560" cy="689040"/>
                  </a:xfrm>
                  <a:prstGeom prst="ellipse">
                    <a:avLst/>
                  </a:prstGeom>
                  <a:solidFill>
                    <a:srgbClr val="fe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246240" y="5931000"/>
                    <a:ext cx="682560" cy="689040"/>
                  </a:xfrm>
                  <a:prstGeom prst="ellipse">
                    <a:avLst/>
                  </a:prstGeom>
                  <a:solidFill>
                    <a:srgbClr val="fe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246240" y="5938920"/>
                    <a:ext cx="682560" cy="690480"/>
                  </a:xfrm>
                  <a:prstGeom prst="ellipse">
                    <a:avLst/>
                  </a:prstGeom>
                  <a:solidFill>
                    <a:srgbClr val="fe0000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3" name=""/>
              <p:cNvSpPr txBox="1"/>
              <p:nvPr/>
            </p:nvSpPr>
            <p:spPr>
              <a:xfrm>
                <a:off x="181080" y="6075360"/>
                <a:ext cx="83196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Univers (WN)"/>
                    <a:ea typeface="Univers (WN)"/>
                  </a:rPr>
                  <a:t>K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"/>
            <p:cNvSpPr txBox="1"/>
            <p:nvPr/>
          </p:nvSpPr>
          <p:spPr>
            <a:xfrm>
              <a:off x="974880" y="6080040"/>
              <a:ext cx="2622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NATIO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5608800" y="6037200"/>
            <a:ext cx="3522600" cy="8082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1.wmf"/><Relationship Id="rId8" Type="http://schemas.openxmlformats.org/officeDocument/2006/relationships/image" Target="../media/image22.wmf"/><Relationship Id="rId9" Type="http://schemas.openxmlformats.org/officeDocument/2006/relationships/image" Target="../media/image23.wmf"/><Relationship Id="rId10" Type="http://schemas.openxmlformats.org/officeDocument/2006/relationships/image" Target="../media/image24.wmf"/><Relationship Id="rId11" Type="http://schemas.openxmlformats.org/officeDocument/2006/relationships/image" Target="../media/image25.wmf"/><Relationship Id="rId12" Type="http://schemas.openxmlformats.org/officeDocument/2006/relationships/image" Target="../media/image26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990720" y="609480"/>
            <a:ext cx="7162920" cy="4824720"/>
            <a:chOff x="990720" y="609480"/>
            <a:chExt cx="7162920" cy="4824720"/>
          </a:xfrm>
        </p:grpSpPr>
        <p:sp>
          <p:nvSpPr>
            <p:cNvPr id="55" name=""/>
            <p:cNvSpPr txBox="1"/>
            <p:nvPr/>
          </p:nvSpPr>
          <p:spPr>
            <a:xfrm>
              <a:off x="990720" y="609480"/>
              <a:ext cx="716292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90000"/>
                </a:lnSpc>
              </a:pPr>
              <a:r>
                <a:rPr b="1" lang="en-US" sz="3600" spc="-1" strike="noStrike">
                  <a:solidFill>
                    <a:srgbClr val="fafd00"/>
                  </a:solidFill>
                  <a:latin typeface="Monotype Corsiva"/>
                  <a:ea typeface="Monotype Corsiva"/>
                </a:rPr>
                <a:t>“</a:t>
              </a:r>
              <a:r>
                <a:rPr b="1" lang="en-US" sz="3600" spc="-1" strike="noStrike">
                  <a:solidFill>
                    <a:srgbClr val="fafd00"/>
                  </a:solidFill>
                  <a:latin typeface="Monotype Corsiva"/>
                  <a:ea typeface="Monotype Corsiva"/>
                </a:rPr>
                <a:t>Software for the global village”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1238400" y="1700280"/>
              <a:ext cx="6496200" cy="3733920"/>
              <a:chOff x="1238400" y="1700280"/>
              <a:chExt cx="6496200" cy="3733920"/>
            </a:xfrm>
          </p:grpSpPr>
          <p:pic>
            <p:nvPicPr>
              <p:cNvPr id="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343240" y="1700280"/>
                <a:ext cx="4400640" cy="373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 txBox="1"/>
              <p:nvPr/>
            </p:nvSpPr>
            <p:spPr>
              <a:xfrm>
                <a:off x="1238400" y="2666880"/>
                <a:ext cx="6496200" cy="1276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marL="285840" indent="-285840" algn="ctr">
                  <a:lnSpc>
                    <a:spcPct val="90000"/>
                  </a:lnSpc>
                  <a:spcBef>
                    <a:spcPts val="720"/>
                  </a:spcBef>
                </a:pPr>
                <a:r>
                  <a:rPr b="1" i="1" lang="en-US" sz="7200" spc="-1" strike="noStrike">
                    <a:solidFill>
                      <a:srgbClr val="ff0000"/>
                    </a:solidFill>
                    <a:latin typeface="Arial Narrow"/>
                    <a:ea typeface="Arial Narrow"/>
                  </a:rPr>
                  <a:t>super linguist</a:t>
                </a:r>
                <a:endParaRPr b="0" lang="en-US" sz="7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1600200" y="2286000"/>
            <a:ext cx="5924520" cy="10764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nus are changed into Spanish on the fly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1095480" y="4857840"/>
            <a:ext cx="7467480" cy="80496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ext in the dialog boxes is also translated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1004760" y="3781440"/>
            <a:ext cx="7520040" cy="12016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s are the sentences on the status ba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14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uper linguis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Eng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38240" y="1700280"/>
            <a:ext cx="659592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iew your application in either the original or the translated langu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er lingui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to switch between the two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0040" y="3852720"/>
            <a:ext cx="8159760" cy="2048040"/>
            <a:chOff x="500040" y="3852720"/>
            <a:chExt cx="8159760" cy="20480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500040" y="3854520"/>
              <a:ext cx="14079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3271680" y="3854520"/>
              <a:ext cx="1325520" cy="99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1919160" y="3854520"/>
              <a:ext cx="1328760" cy="99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7289640" y="3852720"/>
              <a:ext cx="137016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4584600" y="3854520"/>
              <a:ext cx="1330200" cy="101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5934240" y="3854520"/>
              <a:ext cx="135108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509760" y="4873680"/>
              <a:ext cx="1386000" cy="101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8"/>
            <a:stretch/>
          </p:blipFill>
          <p:spPr>
            <a:xfrm>
              <a:off x="1886040" y="4888080"/>
              <a:ext cx="1395360" cy="99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9"/>
            <a:stretch/>
          </p:blipFill>
          <p:spPr>
            <a:xfrm>
              <a:off x="3295800" y="4898880"/>
              <a:ext cx="1401840" cy="100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10"/>
            <a:stretch/>
          </p:blipFill>
          <p:spPr>
            <a:xfrm>
              <a:off x="4599000" y="4873680"/>
              <a:ext cx="1320840" cy="100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11"/>
            <a:stretch/>
          </p:blipFill>
          <p:spPr>
            <a:xfrm>
              <a:off x="7302600" y="4869000"/>
              <a:ext cx="1341360" cy="101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12"/>
            <a:stretch/>
          </p:blipFill>
          <p:spPr>
            <a:xfrm>
              <a:off x="5931000" y="4870440"/>
              <a:ext cx="1352520" cy="1000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3500280" y="4276800"/>
            <a:ext cx="5391000" cy="10087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elect this menu to toggle between  English and Span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12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933480" y="2819520"/>
            <a:ext cx="7201080" cy="10098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LM reverts to English and the screen flips back to Engl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066680" y="68580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uper linguist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Eng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170760" y="3178080"/>
            <a:ext cx="917640" cy="2635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919080" y="2085840"/>
            <a:ext cx="715788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w we will look at some other applications to show tha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er lingui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is not limited by the application type or languag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2381400" y="3419640"/>
            <a:ext cx="5800680" cy="11286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cation:  Notep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pyright © 1989 -1992 Microsoft Corp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uages:  English &lt;&gt; Ger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8440"/>
            <a:ext cx="9131400" cy="681660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3276720" y="4657680"/>
            <a:ext cx="5800680" cy="112860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cation:  Control Pan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pyright © 1989 -1992 Microsoft Corp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uages:  English &lt;&gt; Chin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1028880" y="4100400"/>
            <a:ext cx="6838920" cy="11905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cation:  Microsoft Winwor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pyright © 1989 -1992 Microsoft  Corp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uages:  English &lt;&gt; Spanis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1068480" y="1868400"/>
            <a:ext cx="708660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his demo should take less than ten minutes and will quickly illustrat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er lingui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's translation power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e thank you in advance for your time and welcome any comments that you may have about this pres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Int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25560" y="4714920"/>
            <a:ext cx="20239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895400" y="5533920"/>
            <a:ext cx="6715080" cy="117144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lication:  Microsoft Power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pyright © 1989 -1992 Microsoft Corpo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uages:  English &lt;&gt; Chine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76320" y="1181160"/>
            <a:ext cx="7353360" cy="32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does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uper linguis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Engi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know the proper translation of each word or phrase ?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a dictionary, of cours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ow can you create a dictionary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uper linguis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Manager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386080" y="3710160"/>
            <a:ext cx="4208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09720" y="895320"/>
            <a:ext cx="7439040" cy="89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uper linguis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366920" y="2004840"/>
            <a:ext cx="6434280" cy="17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reates new application diction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intains / modifies existing diction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59240" y="3552840"/>
            <a:ext cx="174780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uper linguis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162080" y="1871640"/>
            <a:ext cx="6777000" cy="209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ows you to specify the objects to be transla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aptures text from application objects automaticall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 the results of your transl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389400" y="4251240"/>
            <a:ext cx="148896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uper linguis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Manag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33640" y="1795320"/>
            <a:ext cx="6962760" cy="28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dds, deletes, and modifies dictionary entries as well as transl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xports dictionaries and allows modification with any text editing or word processing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mports TXT files into a dictionar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111640" y="4376880"/>
            <a:ext cx="23763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Closing Com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549680" y="3343320"/>
            <a:ext cx="3387600" cy="2598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1138320" y="1614600"/>
            <a:ext cx="7048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you would like additional technical data, pricing or any other information, please contact u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le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-203-289-072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X: 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1-203-289-037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863640" y="74304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lobalization of the world econom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031760" y="2208240"/>
            <a:ext cx="7097760" cy="2955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220760" y="2243160"/>
            <a:ext cx="7129440" cy="217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 the world economy woven ever more tightly, maneuvering through overseas markets and managing a multi-national, multi-lingual workforce can be difficul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t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per linguis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smooth your ride through these bumpy wate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uper linguis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Eng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919160" y="4095720"/>
            <a:ext cx="2190600" cy="1790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811080" y="1801800"/>
            <a:ext cx="775332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isplays an application in a variety of languag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acilitates the release of your software to non-English speaking mark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ows your product to reach foreign language markets at the same time as it reaches English-speaking mark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uper linguis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Eng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61840" y="1824120"/>
            <a:ext cx="731988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ns in real-time with the application active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thout modifying any code, source or obje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nd, without changing the operation and functions of the applicatio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734160" y="4210200"/>
            <a:ext cx="819000" cy="16938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479920" y="3683160"/>
            <a:ext cx="1297080" cy="207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fafd00"/>
                </a:solidFill>
                <a:latin typeface="Script"/>
                <a:ea typeface="Script"/>
              </a:rPr>
              <a:t>Wow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uper linguist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Eng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233360" y="1738440"/>
            <a:ext cx="696276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uns in a Client/Server environment on any number of station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sents the same source application located on a server in different languages at client statio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966960" y="4125960"/>
            <a:ext cx="6929280" cy="1712880"/>
            <a:chOff x="966960" y="4125960"/>
            <a:chExt cx="6929280" cy="17128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966960" y="4248000"/>
              <a:ext cx="2000160" cy="159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tretch/>
          </p:blipFill>
          <p:spPr>
            <a:xfrm>
              <a:off x="5810400" y="4125960"/>
              <a:ext cx="2085840" cy="16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2633760" y="5281560"/>
              <a:ext cx="3410280" cy="400320"/>
            </a:xfrm>
            <a:custGeom>
              <a:avLst/>
              <a:gdLst/>
              <a:ahLst/>
              <a:rect l="0" t="0" r="r" b="b"/>
              <a:pathLst>
                <a:path fill="none" w="9473" h="1112">
                  <a:moveTo>
                    <a:pt x="0" y="264"/>
                  </a:moveTo>
                  <a:lnTo>
                    <a:pt x="158" y="211"/>
                  </a:lnTo>
                  <a:lnTo>
                    <a:pt x="370" y="158"/>
                  </a:lnTo>
                  <a:lnTo>
                    <a:pt x="529" y="158"/>
                  </a:lnTo>
                  <a:lnTo>
                    <a:pt x="687" y="105"/>
                  </a:lnTo>
                  <a:lnTo>
                    <a:pt x="846" y="105"/>
                  </a:lnTo>
                  <a:lnTo>
                    <a:pt x="1005" y="158"/>
                  </a:lnTo>
                  <a:lnTo>
                    <a:pt x="1164" y="211"/>
                  </a:lnTo>
                  <a:lnTo>
                    <a:pt x="1322" y="317"/>
                  </a:lnTo>
                  <a:lnTo>
                    <a:pt x="1481" y="370"/>
                  </a:lnTo>
                  <a:lnTo>
                    <a:pt x="1640" y="423"/>
                  </a:lnTo>
                  <a:lnTo>
                    <a:pt x="1852" y="476"/>
                  </a:lnTo>
                  <a:lnTo>
                    <a:pt x="2063" y="636"/>
                  </a:lnTo>
                  <a:lnTo>
                    <a:pt x="2222" y="688"/>
                  </a:lnTo>
                  <a:lnTo>
                    <a:pt x="2434" y="741"/>
                  </a:lnTo>
                  <a:lnTo>
                    <a:pt x="2645" y="794"/>
                  </a:lnTo>
                  <a:lnTo>
                    <a:pt x="2804" y="794"/>
                  </a:lnTo>
                  <a:lnTo>
                    <a:pt x="2910" y="636"/>
                  </a:lnTo>
                  <a:lnTo>
                    <a:pt x="2910" y="476"/>
                  </a:lnTo>
                  <a:lnTo>
                    <a:pt x="2910" y="317"/>
                  </a:lnTo>
                  <a:lnTo>
                    <a:pt x="2751" y="264"/>
                  </a:lnTo>
                  <a:lnTo>
                    <a:pt x="2698" y="423"/>
                  </a:lnTo>
                  <a:lnTo>
                    <a:pt x="2698" y="583"/>
                  </a:lnTo>
                  <a:lnTo>
                    <a:pt x="2751" y="741"/>
                  </a:lnTo>
                  <a:lnTo>
                    <a:pt x="2910" y="900"/>
                  </a:lnTo>
                  <a:lnTo>
                    <a:pt x="3333" y="1006"/>
                  </a:lnTo>
                  <a:lnTo>
                    <a:pt x="3651" y="1059"/>
                  </a:lnTo>
                  <a:lnTo>
                    <a:pt x="3809" y="1059"/>
                  </a:lnTo>
                  <a:lnTo>
                    <a:pt x="4127" y="1006"/>
                  </a:lnTo>
                  <a:lnTo>
                    <a:pt x="4365" y="1112"/>
                  </a:lnTo>
                  <a:lnTo>
                    <a:pt x="4550" y="794"/>
                  </a:lnTo>
                  <a:lnTo>
                    <a:pt x="4603" y="583"/>
                  </a:lnTo>
                  <a:lnTo>
                    <a:pt x="4603" y="423"/>
                  </a:lnTo>
                  <a:lnTo>
                    <a:pt x="4392" y="370"/>
                  </a:lnTo>
                  <a:lnTo>
                    <a:pt x="4233" y="370"/>
                  </a:lnTo>
                  <a:lnTo>
                    <a:pt x="4074" y="583"/>
                  </a:lnTo>
                  <a:lnTo>
                    <a:pt x="4074" y="741"/>
                  </a:lnTo>
                  <a:lnTo>
                    <a:pt x="4127" y="900"/>
                  </a:lnTo>
                  <a:lnTo>
                    <a:pt x="4497" y="953"/>
                  </a:lnTo>
                  <a:lnTo>
                    <a:pt x="4922" y="953"/>
                  </a:lnTo>
                  <a:lnTo>
                    <a:pt x="5557" y="1006"/>
                  </a:lnTo>
                  <a:lnTo>
                    <a:pt x="5980" y="1006"/>
                  </a:lnTo>
                  <a:lnTo>
                    <a:pt x="6192" y="1006"/>
                  </a:lnTo>
                  <a:lnTo>
                    <a:pt x="6350" y="900"/>
                  </a:lnTo>
                  <a:lnTo>
                    <a:pt x="6509" y="794"/>
                  </a:lnTo>
                  <a:lnTo>
                    <a:pt x="6668" y="688"/>
                  </a:lnTo>
                  <a:lnTo>
                    <a:pt x="6721" y="476"/>
                  </a:lnTo>
                  <a:lnTo>
                    <a:pt x="6562" y="423"/>
                  </a:lnTo>
                  <a:lnTo>
                    <a:pt x="6403" y="476"/>
                  </a:lnTo>
                  <a:lnTo>
                    <a:pt x="6350" y="636"/>
                  </a:lnTo>
                  <a:lnTo>
                    <a:pt x="6350" y="794"/>
                  </a:lnTo>
                  <a:lnTo>
                    <a:pt x="6509" y="953"/>
                  </a:lnTo>
                  <a:lnTo>
                    <a:pt x="6827" y="1006"/>
                  </a:lnTo>
                  <a:lnTo>
                    <a:pt x="7144" y="1006"/>
                  </a:lnTo>
                  <a:lnTo>
                    <a:pt x="7462" y="1006"/>
                  </a:lnTo>
                  <a:lnTo>
                    <a:pt x="7620" y="1006"/>
                  </a:lnTo>
                  <a:lnTo>
                    <a:pt x="7779" y="847"/>
                  </a:lnTo>
                  <a:lnTo>
                    <a:pt x="8097" y="794"/>
                  </a:lnTo>
                  <a:lnTo>
                    <a:pt x="8203" y="476"/>
                  </a:lnTo>
                  <a:lnTo>
                    <a:pt x="8361" y="317"/>
                  </a:lnTo>
                  <a:lnTo>
                    <a:pt x="8520" y="211"/>
                  </a:lnTo>
                  <a:lnTo>
                    <a:pt x="8679" y="52"/>
                  </a:lnTo>
                  <a:lnTo>
                    <a:pt x="8838" y="52"/>
                  </a:lnTo>
                  <a:lnTo>
                    <a:pt x="8996" y="0"/>
                  </a:lnTo>
                  <a:lnTo>
                    <a:pt x="9155" y="0"/>
                  </a:lnTo>
                  <a:lnTo>
                    <a:pt x="9314" y="0"/>
                  </a:lnTo>
                  <a:lnTo>
                    <a:pt x="9473" y="52"/>
                  </a:lnTo>
                </a:path>
              </a:pathLst>
            </a:custGeom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42880" y="1305000"/>
            <a:ext cx="8153280" cy="10666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is demo shows how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uper linguist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ngin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ranslates Window’s applications dynamically!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91000" y="4114800"/>
            <a:ext cx="5540400" cy="6904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50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ick on the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super linguist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c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1638360" y="5772240"/>
            <a:ext cx="7048440" cy="83808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SzPct val="120000"/>
              <a:buFont typeface="Wingdings"/>
              <a:buChar char=""/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super linguist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Engin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sits here as a monit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1400" cy="6845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914400" y="2057400"/>
            <a:ext cx="6781680" cy="1447920"/>
          </a:xfrm>
          <a:prstGeom prst="rect">
            <a:avLst/>
          </a:prstGeom>
          <a:solidFill>
            <a:srgbClr val="0000ff"/>
          </a:solidFill>
          <a:ln w="0">
            <a:noFill/>
          </a:ln>
          <a:effectLst>
            <a:outerShdw dist="0" dir="0" blurRad="0" rotWithShape="0">
              <a:srgbClr val="919191"/>
            </a:outerShdw>
          </a:effectLst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the application to be translated   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.g.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uper linguis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Manager (SL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LM is now localized in Spanis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